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CA5-4AFC-4755-A10E-BA043BA3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155-2830-4D46-B3F7-6A571A85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DE4-0E12-4973-A141-E2AAF4F1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8F3-357F-4E36-B77F-215E3CF4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F26-9554-4ABC-9D5A-D056E5E2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827-A2F5-43DB-B921-6A2BB89E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DC9-A483-44F6-A8A7-5B8680CE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600-84AD-4E23-A7C7-47F27D5D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D42-63F3-4A5F-AE62-A618D050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2E7-A15C-4291-A546-877979D1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409-E1A0-4728-BF19-437D93D0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FEA-717A-4CD8-ABA1-C7B8A71D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4930-9052-4C19-915B-DB94F5C11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26317lvschooll7.edusite.ru/p6aa1.html" TargetMode="External"/><Relationship Id="rId2" Type="http://schemas.openxmlformats.org/officeDocument/2006/relationships/hyperlink" Target="http://www.26317lvschooll7.edusite.ru/p6aa1.html" TargetMode="External"/><Relationship Id="rId3" Type="http://schemas.openxmlformats.org/officeDocument/2006/relationships/hyperlink" Target="http://kpoxa.ucoz.com/forum/43-776-1" TargetMode="External"/><Relationship Id="rId4" Type="http://schemas.openxmlformats.org/officeDocument/2006/relationships/hyperlink" Target="http://www.lenagold.ru/fon/clipart/g/grib2.html" TargetMode="External"/><Relationship Id="rId5" Type="http://schemas.openxmlformats.org/officeDocument/2006/relationships/hyperlink" Target="http://www.lenagold.ru/fon/clipart/k/kar3.html" TargetMode="External"/><Relationship Id="rId6" Type="http://schemas.openxmlformats.org/officeDocument/2006/relationships/hyperlink" Target="http://www.lenagold.ru/fon/clipart/k/kar3.html" TargetMode="External"/><Relationship Id="rId7" Type="http://schemas.openxmlformats.org/officeDocument/2006/relationships/hyperlink" Target="http://derzski.ru/?p=206" TargetMode="External"/><Relationship Id="rId8" Type="http://schemas.openxmlformats.org/officeDocument/2006/relationships/hyperlink" Target="http://derzski.ru/?p=206" TargetMode="External"/><Relationship Id="rId9" Type="http://schemas.openxmlformats.org/officeDocument/2006/relationships/hyperlink" Target="http://derzski.ru/?p=206" TargetMode="External"/><Relationship Id="rId10" Type="http://schemas.openxmlformats.org/officeDocument/2006/relationships/hyperlink" Target="http://gorodmam.ru/user/blog/post/432405/page/0" TargetMode="External"/><Relationship Id="rId11" Type="http://schemas.openxmlformats.org/officeDocument/2006/relationships/hyperlink" Target="http://apple4.blog.tut.by/2010/05/03/kotyataanimaciya/" TargetMode="External"/><Relationship Id="rId12" Type="http://schemas.openxmlformats.org/officeDocument/2006/relationships/hyperlink" Target="http://images.yandex.ru/yandsearch?ed=1&amp;rpt=simage&amp;text=3%20&#1094;&#1099;&#1087;&#1083;&#1105;&#1085;&#1082;&#1072;&amp;img_url=s56.radikal.ru%2Fi154%2F0904%2F0b%2F797649ce0634.jpg&amp;spsite=fake-004-7856796.ru&amp;p=29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Занимательная матема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6480" y="3786120"/>
            <a:ext cx="3467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38894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рисую кошкин дом: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окошка, дверь с крыльц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верху ещё окно, чтобы не было темно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считай окошки в домике у к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908000" y="1700280"/>
            <a:ext cx="244980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63528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2400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843280" y="2349360"/>
            <a:ext cx="50472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 flipH="1" rot="13393200">
            <a:off x="2194560" y="836640"/>
            <a:ext cx="1887480" cy="183780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2843280" y="3141720"/>
            <a:ext cx="504720" cy="9144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095640" cy="277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Копия Копия Image3"/>
          <p:cNvPicPr/>
          <p:nvPr/>
        </p:nvPicPr>
        <p:blipFill>
          <a:blip r:embed="rId2"/>
          <a:stretch/>
        </p:blipFill>
        <p:spPr>
          <a:xfrm>
            <a:off x="539640" y="4121280"/>
            <a:ext cx="20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716360" y="1700280"/>
            <a:ext cx="3506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5724000" y="1700280"/>
            <a:ext cx="83844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24360" y="429264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7092720" y="2276640"/>
            <a:ext cx="1143000" cy="4190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 rot="7451400">
            <a:off x="5666760" y="46152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07" name="Oval 9"/>
          <p:cNvSpPr/>
          <p:nvPr/>
        </p:nvSpPr>
        <p:spPr>
          <a:xfrm>
            <a:off x="6443640" y="162864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84360" y="170028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Гляди, четыре – это сту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оторый я перевер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125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128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131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61008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цыплёнка стоят, на скорлупку глядя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яичка  в гнезде у наседки лежа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 поскорей: сколько будет цыплят у наседки мо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80000" y="3789360"/>
            <a:ext cx="3178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емь гусей пустились в пу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решили отдохн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их под облак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те, дети,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924360" y="1159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5580000" y="115920"/>
            <a:ext cx="162108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943280" cy="179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и"/>
          <p:cNvPicPr/>
          <p:nvPr/>
        </p:nvPicPr>
        <p:blipFill>
          <a:blip r:embed="rId4"/>
          <a:stretch/>
        </p:blipFill>
        <p:spPr>
          <a:xfrm>
            <a:off x="1763640" y="3500280"/>
            <a:ext cx="3092400" cy="30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332000" y="1700280"/>
            <a:ext cx="33573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 flipH="1">
            <a:off x="2916360" y="1700280"/>
            <a:ext cx="30456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4"/>
          <p:cNvSpPr/>
          <p:nvPr/>
        </p:nvSpPr>
        <p:spPr>
          <a:xfrm rot="6838800">
            <a:off x="3537000" y="1007280"/>
            <a:ext cx="988920" cy="1368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5"/>
          <p:cNvSpPr/>
          <p:nvPr/>
        </p:nvSpPr>
        <p:spPr>
          <a:xfrm rot="615600">
            <a:off x="2339640" y="3068640"/>
            <a:ext cx="2338200" cy="3340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3132000" y="162864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 rot="7451400">
            <a:off x="2282760" y="389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3"/>
          <p:cNvSpPr/>
          <p:nvPr/>
        </p:nvSpPr>
        <p:spPr>
          <a:xfrm>
            <a:off x="2778120" y="11592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932360" y="1628640"/>
            <a:ext cx="42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– фокусник – пятё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 за ней следите зор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увыркнётся – раз и два!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бернётся цифрой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156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159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162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6360" y="115560"/>
            <a:ext cx="3816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нашёл в дупле у белки пять лесных орешков мелких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т ещё один лежит, мхом заботливо укры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у и белка! Вот хозяйка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се орешки посчитай-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4076280"/>
            <a:ext cx="35384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ружно муравьи живут и без дела не    снуют. Два несут травинку, 2 несут былинку, два несут иголки.                      Сколько муравьев под ел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976560" cy="31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rcRect l="3789" t="5052" r="5500" b="14286"/>
          <a:stretch/>
        </p:blipFill>
        <p:spPr>
          <a:xfrm>
            <a:off x="5076720" y="3645000"/>
            <a:ext cx="38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692360" y="1143000"/>
            <a:ext cx="371772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3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4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3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5724360" y="119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шесть – дверной замо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верху крюк, внизу круж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78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 небе радуга-дуга замыкает берег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асцветая всё ясней, чудо-краски светят в ней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усть ответит тот, кто знает или сможет сосчитать, сколько красок в ней играет, озаряя моря глад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424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835280" y="1143000"/>
            <a:ext cx="35748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5580000" y="112536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семёрка – коче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неё одна н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184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187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одним большим столом сели рядом с гномом гн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Белоснежка с ними вместе стол накрыла честь по чест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неё во всём порядок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олько сколько ложек над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4248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340000" y="1066680"/>
            <a:ext cx="30700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3"/>
          <p:cNvSpPr/>
          <p:nvPr/>
        </p:nvSpPr>
        <p:spPr>
          <a:xfrm flipH="1" flipV="1" rot="1133400">
            <a:off x="3757680" y="1068120"/>
            <a:ext cx="1600200" cy="21351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 flipH="1" flipV="1">
            <a:off x="4038480" y="304776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5"/>
          <p:cNvSpPr/>
          <p:nvPr/>
        </p:nvSpPr>
        <p:spPr>
          <a:xfrm flipH="1" rot="1208400">
            <a:off x="2774160" y="3099960"/>
            <a:ext cx="2133720" cy="2664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388620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 rot="7451400">
            <a:off x="3101400" y="1742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3498840" y="26028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5724360" y="105264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восьмёрки два кольца без начала и ко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193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 дороге мальчик и девочка  шли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Оба по два рубля наш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ними ещё трое иду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они денег найд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843360"/>
            <a:ext cx="41148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езло опять Егор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реки сидит не з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карасика в ведё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И четыре песк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о смотрите – у ведё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явился хитрый ко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рыб домой Ег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уху нам принесё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3319560" cy="30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788000" y="3789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3095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то подарил нам сосновый бор?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емь маслят и один мухомор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всего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19280" y="3500280"/>
            <a:ext cx="346716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идят рыбаки, стерегут попл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Корней поймал трёх оку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Евсей – четырёх кара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А рыбак Михаил двух сомов излов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колько рыб рыбаки поймали из ре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3601800" cy="253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7236000" y="620640"/>
            <a:ext cx="1618920" cy="15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1763640" y="3048120"/>
            <a:ext cx="325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828800" y="1143000"/>
            <a:ext cx="3581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3"/>
          <p:cNvSpPr/>
          <p:nvPr/>
        </p:nvSpPr>
        <p:spPr>
          <a:xfrm flipV="1" rot="6330600">
            <a:off x="2797560" y="1665360"/>
            <a:ext cx="3010320" cy="2055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5"/>
          <p:cNvSpPr/>
          <p:nvPr/>
        </p:nvSpPr>
        <p:spPr>
          <a:xfrm rot="6861000">
            <a:off x="2546280" y="4464000"/>
            <a:ext cx="1460520" cy="13716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138480" y="28116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5580000" y="1052640"/>
            <a:ext cx="32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ка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ест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Перевёрнутая ш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221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блон презентации Александровой З.В., учителя  физики и инфор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20080" y="40464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26317lvschooll7.edusite.ru/p6aa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812160" y="1295280"/>
            <a:ext cx="44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poxa.ucoz.com/forum/43-776-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 с ябло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826920" y="1700280"/>
            <a:ext cx="708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nagold.ru/fon/clipart/g/grib2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ё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22240" y="1484280"/>
            <a:ext cx="49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lenagold.ru/fon/clipart/k/kar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каранда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828000" y="19162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erzski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?p=20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813240" y="2157480"/>
            <a:ext cx="49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gorodmam.ru/user/blog/post/432405/page/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етух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806400" y="2421000"/>
            <a:ext cx="51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apple4.blog.tut.by/2010/05/03/kotyataanimaciya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37000"/>
            <a:ext cx="79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images.yandex.ru/yandsearch?ed=1&amp;rpt=simage&amp;text=3%20%D1%86%D1%8B%D0%BF%D0%BB%D1%91%D0%BD%D0%BA%D0%B0&amp;img_url=s56.radikal.ru%2Fi154%2F0904%2F0b%2F797649ce0634.jpg&amp;spsite=fake-004-7856796.ru&amp;p=2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цып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26920" y="3284640"/>
            <a:ext cx="56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augur-really.livejournal.com/ - гнездо с яйц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826920" y="3500280"/>
            <a:ext cx="69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azumniki.ru/showthread.php?p=15375 - гу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810720" y="37670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childrensbook.narod.ru/photoalbum.html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810720" y="3933720"/>
            <a:ext cx="51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kvadra.su/2010/02/04/saga-o-muravy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803160" y="4221000"/>
            <a:ext cx="543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t.free-lance.ru/projects/upload/f_4af066f812fb2.jpg - рад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826920" y="4487760"/>
            <a:ext cx="518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devochkiclab.my1.ru/ - Белоснежка и семь гно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826920" y="477504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greenmama.ua/nid/270092/ -мас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826920" y="501336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c-mir.com/topic1924604_350.html - мухо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808200" y="5229360"/>
            <a:ext cx="55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.sunhome.ru/UsersGallery/Cards/183/3114313.jpg - рыб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826920" y="5516640"/>
            <a:ext cx="792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йды № 3,5,7,9,11,13,15,17,19,21 частично мной использованы из презентации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Шевцовой С.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сайта -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viki.rdf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826920" y="692280"/>
            <a:ext cx="59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lgaishkolatrhree.okis.ru/roditilyam.html - мальчик и дев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900000" y="5950080"/>
            <a:ext cx="726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to.tut.by/search_result.php?query=%E6%E8%E2%EE%F2%ED%FB%E9&amp;page=1 – кот на рыба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826920" y="6381720"/>
            <a:ext cx="832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forum.fotowedding.ru/viewtopic.php?p=170659&amp;sid=101dbf2b6e66589a60f9f4a9ce010a1f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й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805680" y="1103400"/>
            <a:ext cx="58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materinstvo.ru/index.php?showtopic=83152&amp;st=300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057400" y="1143000"/>
            <a:ext cx="33526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 rot="901200">
            <a:off x="2796840" y="1133280"/>
            <a:ext cx="2460600" cy="4721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rot="7451400">
            <a:off x="4083120" y="82080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651640" y="1125360"/>
            <a:ext cx="29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вроде буквы 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ноль иль нич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71484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0229 C 0.04514 -0.00556 0.04097 -0.02614 0.03316 -0.05205 C 0.02535 -0.07796 0.01389 -0.1159 0.00069 -0.13278 C -0.0125 -0.14967 -0.02622 -0.15406 -0.04566 -0.15337 C -0.0651 -0.15268 -0.0934 -0.14897 -0.11615 -0.12908 C -0.13889 -0.10919 -0.16146 -0.08559 -0.18229 -0.03331 C -0.20313 0.01896 -0.23177 0.1189 -0.24149 0.18436 C -0.25122 0.24982 -0.24601 0.30788 -0.2401 0.35877 C -0.2342 0.40967 -0.22083 0.46241 -0.20625 0.49017 C -0.19167 0.51769 -0.17222 0.52671 -0.15278 0.52556 C -0.13333 0.52463 -0.11424 0.51214 -0.08941 0.48276 C -0.06458 0.45339 -0.02431 0.39394 -0.00347 0.34952 C 0.01736 0.30511 0.02778 0.25468 0.03594 0.21628 C 0.0441 0.17788 0.04444 0.15059 0.04583 0.11866 C 0.04722 0.08674 0.04931 0.05135 0.04722 0.0229 Z">
                                      <p:cBhvr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42483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домика утром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зайца сидели и дружно весёлую песенку пе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дин убежал, а второй вслед гляди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у домика зайцев сид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2452680" cy="308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252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3880" y="1143000"/>
            <a:ext cx="38862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2971800" y="1142640"/>
            <a:ext cx="243828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2895120" y="1143000"/>
            <a:ext cx="2514600" cy="4724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2819520" y="571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334120" y="1066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 rot="7451400">
            <a:off x="2187000" y="20030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5796000" y="1125360"/>
            <a:ext cx="305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один , иль един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чень тонкая, как сп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42612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53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56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76360" y="4581360"/>
            <a:ext cx="381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Гри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Ми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же карандашей 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боих малыш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2381400" cy="2600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11280" y="-360"/>
            <a:ext cx="388944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Три яблока из сада 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Ёжик притащ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амое румяное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Белке подар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 радостью подарок получила белка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осчитайте яблоки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У ежа в тарелк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09840" cy="375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2209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403280" y="1197000"/>
            <a:ext cx="4033800" cy="4869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3"/>
          <p:cNvSpPr/>
          <p:nvPr/>
        </p:nvSpPr>
        <p:spPr>
          <a:xfrm rot="901200">
            <a:off x="3203280" y="1267920"/>
            <a:ext cx="2324160" cy="1433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77" name="Oval 10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835280" y="333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867280" y="112536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Два похожа на гус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 длинной ше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Шеей то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81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3500280"/>
            <a:ext cx="3609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летень взлетел пет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стречал ещё там дв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стало петух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кого ответ гот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355640" y="333000"/>
            <a:ext cx="418644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олянку у дубка ёж увидел два грибк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А подальше, у осин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н нашёл ещё один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то ответить нам готов, Сколько ёж нашёл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2664000" cy="243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166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268360" y="1773360"/>
            <a:ext cx="3065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rc 3"/>
          <p:cNvSpPr/>
          <p:nvPr/>
        </p:nvSpPr>
        <p:spPr>
          <a:xfrm flipH="1" rot="876600">
            <a:off x="3202560" y="1773000"/>
            <a:ext cx="2055600" cy="20923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4"/>
          <p:cNvSpPr/>
          <p:nvPr/>
        </p:nvSpPr>
        <p:spPr>
          <a:xfrm>
            <a:off x="2843280" y="3860640"/>
            <a:ext cx="2438280" cy="2590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3203640" y="220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 rot="7451400">
            <a:off x="2355840" y="965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Oval 10"/>
          <p:cNvSpPr/>
          <p:nvPr/>
        </p:nvSpPr>
        <p:spPr>
          <a:xfrm>
            <a:off x="3924360" y="378936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44000" y="2602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5867280" y="1773360"/>
            <a:ext cx="29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А вот это – посмо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ступает цифра 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Тройка – третий из значков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остоит из двух крюч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10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55:37Z</dcterms:created>
  <dc:creator>User</dc:creator>
  <dc:description/>
  <dc:language>en-US</dc:language>
  <cp:lastModifiedBy>home</cp:lastModifiedBy>
  <dcterms:modified xsi:type="dcterms:W3CDTF">2012-11-25T06:46:09Z</dcterms:modified>
  <cp:revision>9</cp:revision>
  <dc:subject/>
  <dc:title>Занимательная математика для детей (устный счёт)</dc:title>
</cp:coreProperties>
</file>